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B1E5-7AE0-4DD7-AC58-2A4E2ED37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DABB-8318-411F-A579-23C8DF0B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B0B1-03B3-4AED-B113-59C263138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2BF8-A54C-467F-81D1-2EDD8ABB5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8C46-B6E1-45E7-8691-65D6309B6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E7A7-443E-4A95-8025-B9EEBE50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F600B-0636-40C5-98F8-C9969F7E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7ECD-38D7-468D-89A8-8FE6A02F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70B5-0CE2-459B-B11B-740A48E8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38C9-F94C-4232-8787-A3FAA59C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E2A5-2BDC-428E-9312-E2D4D4FC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6F1A-8EF6-4692-B8B7-8FE17E96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2487-0EFE-4356-A9A6-407873CC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1FC0-5597-4CA8-80D0-24DEDC4A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4F4E4-3998-40CE-B629-77EDFAEB8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B960-A8BF-4445-998A-42B54DF40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F6AB-5810-485A-AD68-B543D80F6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90C0-8FB2-457B-B37A-9E98CF32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5C9B-D55C-4A53-A69C-56071874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69DC-F847-48BD-B623-CA279E85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6B20-4D00-43D4-8927-4574C993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CB0B-CFDB-49F1-8707-776A7EC7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004B-C07C-475E-AE99-A7CEDB48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D45C-C85A-44FB-8BE3-F56848E1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E7E5-6782-49D7-B89E-1D66B3E6FC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A8D8-E1AF-4D77-AE85-DED6582B9AED}" type="slidenum">
              <a:rPr b="0" lang="cs-CZ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7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3600" spc="-1" strike="noStrike">
                <a:solidFill>
                  <a:srgbClr val="333399"/>
                </a:solidFill>
                <a:latin typeface="Tahoma"/>
              </a:rPr>
              <a:t>Research Proposal</a:t>
            </a:r>
            <a:br>
              <a:rPr sz="3600"/>
            </a:br>
            <a:br>
              <a:rPr sz="2800"/>
            </a:br>
            <a:r>
              <a:rPr b="0" i="1" lang="cs-CZ" sz="2800" spc="-1" strike="noStrike">
                <a:solidFill>
                  <a:srgbClr val="ff0000"/>
                </a:solidFill>
                <a:latin typeface="Tahoma"/>
              </a:rPr>
              <a:t>Assignm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38000" y="1278000"/>
            <a:ext cx="7048440" cy="99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The research quest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555640"/>
            <a:ext cx="822960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ormulate research questions to capture research problem and to provide framework for description of find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earch questions indicate what data will be needed for resear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earch questions influence data collection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33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38000" y="1278000"/>
            <a:ext cx="704844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The research questions (cont.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Research problem: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Using social media in advertising for increasing its effe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Research questi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Why do companies use social media in advertising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do companies use social media in advertis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is it possible to measure influence of social media using on effectiveness of advertising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is it possible to increase effectiveness of advertising by using social media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38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39" name="Rounded Rectangle 1"/>
          <p:cNvSpPr/>
          <p:nvPr/>
        </p:nvSpPr>
        <p:spPr>
          <a:xfrm>
            <a:off x="646200" y="1989000"/>
            <a:ext cx="1404720" cy="432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38000" y="1277640"/>
            <a:ext cx="7048440" cy="42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The research objectives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060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sz="1500" spc="-1" strike="noStrike">
                <a:solidFill>
                  <a:srgbClr val="000000"/>
                </a:solidFill>
                <a:latin typeface="Tahoma"/>
              </a:rPr>
              <a:t>when formulating research objectives respect research question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ahoma"/>
              </a:rPr>
              <a:t>- the research objectives more specify research focu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Why do companies use social media in advertising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identify goals of social media using in advertisement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do companies use social media in advertising?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describe ways of social media using in advertisement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is it possible to measure influence of social media using on effectiveness of advertising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propose suitable indicators to measue influence of social media using on effectiveness of advertising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is it possible to increase effectiveness of advertising by using social media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4a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identify factors influencing effectiveness of advertising by using social media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4b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judge if some of factors have higher influence than other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4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45" name="Rounded Rectangle 1"/>
          <p:cNvSpPr/>
          <p:nvPr/>
        </p:nvSpPr>
        <p:spPr>
          <a:xfrm>
            <a:off x="457200" y="2808360"/>
            <a:ext cx="2438280" cy="2872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Example- continu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50560" y="1125000"/>
            <a:ext cx="6635880" cy="7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Hypothes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 case tha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ach specific question you can predict in advance what you expect (before you get and analyze dat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 prediction is based on the theory from which one can derive hypothe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Use the hypothesis, if it is possible and useful and do not use it if it does no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50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2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questions (RQ), objectives (RO) and hypotheses (H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Prepare it in this wa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Q1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O1: (it can be also RO1a, RO1b,…if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1: (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only if hypothesis will be tested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, it could be also H1a, H1b,… if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Q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O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2: (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only if hypothesis will be tested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e number of research questions, objectives and hypotheses is connected with character of your researc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2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questions (RQ), objectives (RO) and hypotheses (H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64388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Quantitative or qualitative research?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Research is captured by the research question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What data are needed to answer them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How to collect and analyze data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76"/>
              </a:spcBef>
              <a:buClr>
                <a:srgbClr val="ffcf01"/>
              </a:buClr>
              <a:buSzPct val="5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Results of analyzing data for answering research question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Testing theory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creating new the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Theory Verification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– testing hypotheses defined on the base of literature review - </a:t>
            </a: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quantitative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Theory Creation</a:t>
            </a:r>
            <a:r>
              <a:rPr b="0" lang="en-GB" sz="2000" spc="-1" strike="noStrike">
                <a:solidFill>
                  <a:srgbClr val="00b0f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– suggestion or development of a theory that would explain phenomena or results - </a:t>
            </a: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qualitative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1422360"/>
            <a:ext cx="7354800" cy="7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How to choose a suitable research approach and methods?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227664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- answering these question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o you intend to make a standardized comparison, quantify the relationships between the variables and describe the variability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r, do you want to seek a more detailed study of a phenomenon or situation, holistically and in a context, with a focus on interpretations or processe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suggestions can be found in the literature on the topic within this methodological issu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are the practical implications of each alternative (including access to data and sources needs)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ich way leads to deeper knowledg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type of research is closer to your mind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6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8040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Methodology of research (approach, methods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94920" y="2017800"/>
            <a:ext cx="855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1052280"/>
            <a:ext cx="7354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Tahoma"/>
              </a:rPr>
              <a:t>How to collect and analyse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Collection Technique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- identify what data (primary / secondary) you need to answer research questions - choose the techniques to collect them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questionnaires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interviews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observations, 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collection tools and procedures for individual technique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or questionnaires - what kind of questions, posting by mail, electronically, </a:t>
            </a:r>
            <a:r>
              <a:rPr b="0" lang="is-IS" sz="16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or interviews - where, when, how to record, 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Analysi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- identify how data will be analysed to get answers to research questions and to solve a research proble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71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itle of the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hD stud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uper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Data collection techniqu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87280" y="1415520"/>
            <a:ext cx="7499520" cy="93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Timetable and resources needed for carrying out research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eparing a research timetable will help verify the feasibility of research over a given time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ivision of research into phases (steps)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each phase has a time period to comple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esources need to be assessed on material and financial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availability of databases, software, </a:t>
            </a:r>
            <a:r>
              <a:rPr b="0" lang="is-IS" sz="2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 availability of  financial sources or how could b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ources for research ob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78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4995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imetable and resources needed for carrying out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4995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Expected limitations of your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188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Expected benefits for theo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6310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Expected benefits for practi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82600" y="333000"/>
            <a:ext cx="76536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Tahoma"/>
              </a:rPr>
              <a:t>References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82600" y="1628280"/>
            <a:ext cx="7772400" cy="45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24000" y="1341000"/>
            <a:ext cx="6562800" cy="5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Area of Interes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Try to identify topic to stud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entral idea to learn about or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Area of interes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3280" y="1267920"/>
            <a:ext cx="7283520" cy="5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Literature review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- demonstrat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level of knowled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tr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g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„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Create argumentation, no library“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(Rudestam, Newton, 2002, s.59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1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Literature review (just summary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32000" y="1341000"/>
            <a:ext cx="7354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Defining the research problem and the main objective of research 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research problem is based on the so-called "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research gap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"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 existing literature, solutions and research results can not be found, the problem has not been addressed, 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roblem has been solved, but the results are different, conflicts can be found in theoretical approaches, empirical method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identified research problem follows by the formulation of the 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main objectiv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f the thesi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21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problem and main aim </a:t>
            </a:r>
            <a:br>
              <a:rPr sz="3200"/>
            </a:b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of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63640" y="1484280"/>
            <a:ext cx="6624720" cy="16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How to set research questions, objectives and hypothe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sp>
        <p:nvSpPr>
          <p:cNvPr id="126" name="Zástupný symbol pro číslo snímku 11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70D7-04A1-4619-8B68-A32E53A66F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28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2T07:44:03Z</dcterms:created>
  <dc:creator>Drahomíra Pavelková</dc:creator>
  <dc:description/>
  <dc:language>en-US</dc:language>
  <cp:lastModifiedBy>Drahomíra Pavelková</cp:lastModifiedBy>
  <dcterms:modified xsi:type="dcterms:W3CDTF">2019-09-11T19:13:08Z</dcterms:modified>
  <cp:revision>10</cp:revision>
  <dc:subject/>
  <dc:title>      Conceptual research framewor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